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926-EF4F-4B18-BAA8-E7C8CE1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CEC-5769-453B-92FC-3A09C47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244-1DFF-4EC0-A7E1-5B9710A3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693-1374-4285-A04D-385AD8C4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CE3-D44F-4C66-9A0D-CA52A05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F19B-2665-48FB-96E8-A5CE4B0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09E0-74C9-4752-816C-91420712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45C-2857-4B4C-9EF2-B0C5706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2B7-04B4-4668-97F7-C142361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4A2-5F41-4471-A033-06E5A09D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F19-2593-43F6-90A1-1D14F1A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4B9-040E-4905-8D1F-B0E65943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B7FD-A2EE-4D6F-B9AA-4E40E89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E250-99B2-4155-BA1F-A4FA678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2B9-EFE0-4E44-AFAC-E8800969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B930-0BA0-401E-90D1-B1F97D8E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DF8-B995-49A5-9231-1DA4384F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0BD3-9C0A-447E-967C-81387281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7214-C030-4374-A16A-AEFFFCCF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5044-D2EC-42D1-BC1B-8FA66FAE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B86B-E527-4915-A42E-4AB4666B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47DD-01D1-4F1B-9445-8B89A952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0D6-2755-4CF9-A75D-69B4D96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0300-EB4D-4EB0-B2EB-8FE006F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DBF9-3EF7-4DDB-80D8-0955E3D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3FE1-BB06-4833-B0E9-53BE622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C848-C485-4E7F-9C09-DAD7DC5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46AC-3DE9-4274-9667-5B73A94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8355-E9C3-4771-8597-F2D198F0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B588-3E66-4000-A6F9-2395B8CB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9CF3-AE2D-4DA7-AF22-E8A1AF4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EA73-C59C-4370-B37B-337F8ED2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19D3-A419-432D-8221-7F85211A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7DE-9E58-442B-9DC4-6CB3930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98DE-F574-4EFD-A24E-8516670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78A6-117C-492D-B6BD-005828B6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7672-B1C6-4499-BDAB-31F62AB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EF7D-4197-48F4-846F-B942502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1845-BDF3-4637-BD8B-1EF11C3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4D5C-7D76-48A7-BA6C-2F43101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4B62-334A-493B-9D48-2B821B4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5207-522B-4D76-8D1B-F6E6CBC5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12FD0-D7C8-40B3-8FC3-2486F8CD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F27-7477-49CC-8F89-884C2AE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036-AA10-4592-BFDC-A085F96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9AC-78F8-4270-B57B-FDF4659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03A-8BB6-4D33-ACCA-B5AA909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51F-0DBF-490B-953B-D4E7D73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718-B604-4264-AD0B-FF1F7F8EA1EA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2FC-9810-44E8-A218-2685EBE67756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12F-C728-4301-A915-BD5BFF889329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B81-F4B1-422D-A5CB-034BFCE57817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65160" y="498240"/>
            <a:ext cx="9048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rebuchet MS"/>
              </a:rPr>
              <a:t>ВСЕРОССИЙСКАЯ АКЦИЯ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26800" y="3706920"/>
            <a:ext cx="9048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Trebuchet MS"/>
              </a:rPr>
              <a:t>Что надо знать родителям об особенностях поведения детей на дороге с учетом их психофизиологических условий развити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230040" y="6240600"/>
            <a:ext cx="5756400" cy="617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1528920" y="1969920"/>
            <a:ext cx="82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rebuchet MS"/>
              </a:rPr>
              <a:t>«БЕЗОПАСНАЯ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rebuchet MS"/>
              </a:rPr>
              <a:t>ГРАМОТА ДЛЯ ДЕТЕЙ И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5040" y="29340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Дети не в состоянии на бегу</a:t>
            </a: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 сразу же остановиться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889600" y="2182680"/>
            <a:ext cx="43466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этому на крик родителей или сигнал автомобиля они реагируют со значительным опоздание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inner.jpg"/>
          <p:cNvPicPr/>
          <p:nvPr/>
        </p:nvPicPr>
        <p:blipFill>
          <a:blip r:embed="rId2"/>
          <a:stretch/>
        </p:blipFill>
        <p:spPr>
          <a:xfrm>
            <a:off x="696960" y="2182680"/>
            <a:ext cx="49719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2000" y="193320"/>
            <a:ext cx="974232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Дети эмоциональны и импульсивны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133800" y="1009440"/>
            <a:ext cx="662472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х внимание концентрируется  не на предметах, представляющих опасность, а на тех, которые в данный момент интересуют его больше  всего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7e3c6a6e-f50e-4dd4-a86d-6d360162eb81.jpg"/>
          <p:cNvPicPr/>
          <p:nvPr/>
        </p:nvPicPr>
        <p:blipFill>
          <a:blip r:embed="rId2"/>
          <a:stretch/>
        </p:blipFill>
        <p:spPr>
          <a:xfrm>
            <a:off x="7137360" y="2055960"/>
            <a:ext cx="330516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7" descr="C:\Users\ЕЛЕНА\Desktop\картинки\ee563bu-9601.jpg"/>
          <p:cNvPicPr/>
          <p:nvPr/>
        </p:nvPicPr>
        <p:blipFill>
          <a:blip r:embed="rId3"/>
          <a:stretch/>
        </p:blipFill>
        <p:spPr>
          <a:xfrm>
            <a:off x="318960" y="3914640"/>
            <a:ext cx="3502080" cy="212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C:\Users\ЕЛЕНА\Desktop\картинки\17.jpg"/>
          <p:cNvPicPr/>
          <p:nvPr/>
        </p:nvPicPr>
        <p:blipFill>
          <a:blip r:embed="rId4"/>
          <a:stretch/>
        </p:blipFill>
        <p:spPr>
          <a:xfrm>
            <a:off x="461880" y="1028880"/>
            <a:ext cx="2381400" cy="25905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3962520" y="428616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гнать приятеля, уже перешедшего на другую сторону дороги, или подобрать укатившийся мячик для ребенка гораздо важнее, чем надвигающееся транспортное сре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3127320" y="2116080"/>
            <a:ext cx="40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метив предмет или человека, который привлекает его внимание, ребенок может устремиться к ним, забыв обо всем на св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7800"/>
            <a:ext cx="9443880" cy="20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Надежная ориентация «налево» и «направо» приобретается не ранее чем в 7-8-летнем возрасте, а во многих случаях и позже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68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original.jpeg"/>
          <p:cNvPicPr/>
          <p:nvPr/>
        </p:nvPicPr>
        <p:blipFill>
          <a:blip r:embed="rId1"/>
          <a:stretch/>
        </p:blipFill>
        <p:spPr>
          <a:xfrm>
            <a:off x="2465280" y="2114640"/>
            <a:ext cx="58118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9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SC_5162.jpg"/>
          <p:cNvPicPr/>
          <p:nvPr/>
        </p:nvPicPr>
        <p:blipFill>
          <a:blip r:embed="rId1"/>
          <a:stretch/>
        </p:blipFill>
        <p:spPr>
          <a:xfrm>
            <a:off x="4471920" y="1782720"/>
            <a:ext cx="2924280" cy="194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1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AllZFlGPfU.jpg"/>
          <p:cNvPicPr/>
          <p:nvPr/>
        </p:nvPicPr>
        <p:blipFill>
          <a:blip r:embed="rId3"/>
          <a:stretch/>
        </p:blipFill>
        <p:spPr>
          <a:xfrm>
            <a:off x="419040" y="1687680"/>
            <a:ext cx="29815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3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1621_html_24002e8a.jpg"/>
          <p:cNvPicPr/>
          <p:nvPr/>
        </p:nvPicPr>
        <p:blipFill>
          <a:blip r:embed="rId4"/>
          <a:stretch/>
        </p:blipFill>
        <p:spPr>
          <a:xfrm>
            <a:off x="7354800" y="4024440"/>
            <a:ext cx="2884680" cy="19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5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ai_20_08_12_001.jpg"/>
          <p:cNvPicPr/>
          <p:nvPr/>
        </p:nvPicPr>
        <p:blipFill>
          <a:blip r:embed="rId5"/>
          <a:stretch/>
        </p:blipFill>
        <p:spPr>
          <a:xfrm>
            <a:off x="2975040" y="3957480"/>
            <a:ext cx="310824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Прямоугольник 9"/>
          <p:cNvSpPr/>
          <p:nvPr/>
        </p:nvSpPr>
        <p:spPr>
          <a:xfrm>
            <a:off x="0" y="220680"/>
            <a:ext cx="94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Trebuchet MS"/>
              </a:rPr>
              <a:t>Родители, помните последовательность и терпеливость в обучении  – залог безопасности ваших детей!</a:t>
            </a:r>
            <a:r>
              <a:rPr b="0" i="1" lang="ru-RU" sz="2800" spc="-1" strike="noStrike">
                <a:solidFill>
                  <a:srgbClr val="339933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pieton_parenttenantlamainenfant.jpg"/>
          <p:cNvPicPr/>
          <p:nvPr/>
        </p:nvPicPr>
        <p:blipFill>
          <a:blip r:embed="rId1"/>
          <a:stretch/>
        </p:blipFill>
        <p:spPr>
          <a:xfrm>
            <a:off x="395280" y="1846440"/>
            <a:ext cx="3521160" cy="234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7" name="Picture 5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archive_Fotolia_56946235_Subscription_XXL-1024x697.jpg"/>
          <p:cNvPicPr/>
          <p:nvPr/>
        </p:nvPicPr>
        <p:blipFill>
          <a:blip r:embed="rId2"/>
          <a:stretch/>
        </p:blipFill>
        <p:spPr>
          <a:xfrm>
            <a:off x="7674120" y="3025800"/>
            <a:ext cx="3511440" cy="23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3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9"/>
          <p:cNvSpPr/>
          <p:nvPr/>
        </p:nvSpPr>
        <p:spPr>
          <a:xfrm>
            <a:off x="254160" y="403200"/>
            <a:ext cx="93312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«Дети — это не взрослые в миниатюре. Их реакция на опасность очень отличается от наше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7f7f7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юваль, франц. психолог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04.jpg"/>
          <p:cNvPicPr/>
          <p:nvPr/>
        </p:nvPicPr>
        <p:blipFill>
          <a:blip r:embed="rId4"/>
          <a:stretch/>
        </p:blipFill>
        <p:spPr>
          <a:xfrm>
            <a:off x="4370400" y="2246400"/>
            <a:ext cx="2768760" cy="23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299520"/>
            <a:ext cx="97902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Trebuchet MS"/>
              </a:rPr>
              <a:t>Психофизиологические особенности детей, определяющие их  поведение на дороге. </a:t>
            </a:r>
            <a:br>
              <a:rPr sz="3200"/>
            </a:b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44680" y="2179800"/>
            <a:ext cx="53593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Взрослые, подходя к проезжей части, уже издалека  наблюдают и оценивают создавшуюся ситуацию. Дети же начинают наблюдение, только подойдя  к краю проезжей части или уже находясь на ней. В результате – мозг ребенка  не успевает переварить информацию и дать правильную команду к действ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kanikuly.jpg"/>
          <p:cNvPicPr/>
          <p:nvPr/>
        </p:nvPicPr>
        <p:blipFill>
          <a:blip r:embed="rId2"/>
          <a:stretch/>
        </p:blipFill>
        <p:spPr>
          <a:xfrm>
            <a:off x="504720" y="2360520"/>
            <a:ext cx="4395960" cy="3299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441360" y="1623960"/>
            <a:ext cx="96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rebuchet MS"/>
              </a:rPr>
              <a:t>Дети иначе, чем взрослые переходят дор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Users\ЕЛЕНА\Desktop\Depositphotos_30858173_s.jpg"/>
          <p:cNvPicPr/>
          <p:nvPr/>
        </p:nvPicPr>
        <p:blipFill>
          <a:blip r:embed="rId1"/>
          <a:stretch/>
        </p:blipFill>
        <p:spPr>
          <a:xfrm>
            <a:off x="6999120" y="3699000"/>
            <a:ext cx="4129200" cy="2581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9175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>
                <a:solidFill>
                  <a:srgbClr val="00b050"/>
                </a:solidFill>
                <a:latin typeface="Trebuchet MS"/>
              </a:rPr>
              <a:t>Дети младшего возраста переносят в реальный мир свои представления из микромира игрушек.</a:t>
            </a:r>
            <a:endParaRPr b="0" lang="en-US" sz="29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1600" y="1887120"/>
            <a:ext cx="40813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ни не осознают, что реальные транспортные средства не могут в действительности останавливаться на месте так же мгновенно, как и игрушечн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ЕЛЕНА\Desktop\1280x720-SCv.jpg"/>
          <p:cNvPicPr/>
          <p:nvPr/>
        </p:nvPicPr>
        <p:blipFill>
          <a:blip r:embed="rId3"/>
          <a:srcRect l="42815" t="0" r="0" b="0"/>
          <a:stretch/>
        </p:blipFill>
        <p:spPr>
          <a:xfrm>
            <a:off x="5218200" y="1762200"/>
            <a:ext cx="28130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431640"/>
            <a:ext cx="76834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ост ребенка – серьезное препятствие для обзора окружающей обстановки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4160" y="2081160"/>
            <a:ext cx="40986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-за стоящих транспортных средств ему не видно, что делается на дороге, в тоже время он сам не виден из-за машин водител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158_thumb.jpg"/>
          <p:cNvPicPr/>
          <p:nvPr/>
        </p:nvPicPr>
        <p:blipFill>
          <a:blip r:embed="rId2"/>
          <a:stretch/>
        </p:blipFill>
        <p:spPr>
          <a:xfrm>
            <a:off x="7459560" y="333360"/>
            <a:ext cx="3246480" cy="24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7" descr="C:\Users\ЕЛЕНА\Desktop\картинки\img-20130904173558-607.jpg"/>
          <p:cNvPicPr/>
          <p:nvPr/>
        </p:nvPicPr>
        <p:blipFill>
          <a:blip r:embed="rId3"/>
          <a:stretch/>
        </p:blipFill>
        <p:spPr>
          <a:xfrm>
            <a:off x="4702320" y="2919240"/>
            <a:ext cx="54864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5800" y="411120"/>
            <a:ext cx="611532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Оценка движущегося транспорта подвержена влиянию контрастов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3360" y="2154240"/>
            <a:ext cx="5319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ем больше транспортное средство, тем быстрее дети  представляют его движение. При приближении большого грузовика, даже если он движется с небольшой скоростью, ребенок реже рискует пересекать проезжую часть, однако недооценивает опасность небольшой машины, движущейся с большой скорость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Users\ЕЛЕНА\Desktop\картинки\svetofor3-2kol.jpg"/>
          <p:cNvPicPr/>
          <p:nvPr/>
        </p:nvPicPr>
        <p:blipFill>
          <a:blip r:embed="rId2"/>
          <a:stretch/>
        </p:blipFill>
        <p:spPr>
          <a:xfrm>
            <a:off x="6389640" y="2849400"/>
            <a:ext cx="4576680" cy="304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Users\ЕЛЕНА\Desktop\картинки\IMG_9962.JPG"/>
          <p:cNvPicPr/>
          <p:nvPr/>
        </p:nvPicPr>
        <p:blipFill>
          <a:blip r:embed="rId3"/>
          <a:srcRect l="0" t="0" r="0" b="20247"/>
          <a:stretch/>
        </p:blipFill>
        <p:spPr>
          <a:xfrm>
            <a:off x="7893000" y="623880"/>
            <a:ext cx="3992760" cy="2122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ЕЛЕНА\Desktop\картинки\0_98b9c_5208a372_XL.jpg"/>
          <p:cNvPicPr/>
          <p:nvPr/>
        </p:nvPicPr>
        <p:blipFill>
          <a:blip r:embed="rId4"/>
          <a:stretch/>
        </p:blipFill>
        <p:spPr>
          <a:xfrm>
            <a:off x="222120" y="217440"/>
            <a:ext cx="1832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33560" y="597960"/>
            <a:ext cx="781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Поле зрения у детей на 15-20% уже, чем у взрослых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8160" y="2190600"/>
            <a:ext cx="45673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этому транспортные средства слева и справа остаются ребенком не замеченными. Он видит только то, что находится напроти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67468.jpg"/>
          <p:cNvPicPr/>
          <p:nvPr/>
        </p:nvPicPr>
        <p:blipFill>
          <a:blip r:embed="rId2"/>
          <a:stretch/>
        </p:blipFill>
        <p:spPr>
          <a:xfrm>
            <a:off x="4933800" y="1870200"/>
            <a:ext cx="5143680" cy="381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ебенок до 8 лет плохо распознает источники звуков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58920" y="2327400"/>
            <a:ext cx="419292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бенок слышит только те звуки, которые ему интерес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етям трудно определить, откуда доносится шум приближающегося транспортного сред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f_4a8f6cdfeee44.jpg"/>
          <p:cNvPicPr/>
          <p:nvPr/>
        </p:nvPicPr>
        <p:blipFill>
          <a:blip r:embed="rId2"/>
          <a:stretch/>
        </p:blipFill>
        <p:spPr>
          <a:xfrm>
            <a:off x="692280" y="2151000"/>
            <a:ext cx="4716360" cy="365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240840"/>
            <a:ext cx="8596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еакция у ребенка, по сравнению со взрослыми, более замедленная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6160" y="1650960"/>
            <a:ext cx="518652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Взрослому, чтобы отреагировать на опасность требуется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0,8 - 1 сек.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Ребенку необходимо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3 - 4 сек.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rebuchet MS"/>
              </a:rPr>
              <a:t>Чтобы отличить движущийся автомобиль от стоящего, семилетнему ребенку требуется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до 4 секунд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392977.jpg"/>
          <p:cNvPicPr/>
          <p:nvPr/>
        </p:nvPicPr>
        <p:blipFill>
          <a:blip r:embed="rId2"/>
          <a:stretch/>
        </p:blipFill>
        <p:spPr>
          <a:xfrm>
            <a:off x="5730840" y="1736640"/>
            <a:ext cx="438624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4" name="TextBox 5"/>
          <p:cNvSpPr/>
          <p:nvPr/>
        </p:nvSpPr>
        <p:spPr>
          <a:xfrm>
            <a:off x="533520" y="5286240"/>
            <a:ext cx="95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Такое промедление может оказаться опасным для жизн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4T06:48:27Z</dcterms:created>
  <dc:creator>Настя</dc:creator>
  <dc:description/>
  <dc:language>en-US</dc:language>
  <cp:lastModifiedBy>User</cp:lastModifiedBy>
  <dcterms:modified xsi:type="dcterms:W3CDTF">2016-12-12T11:42:08Z</dcterms:modified>
  <cp:revision>161</cp:revision>
  <dc:subject/>
  <dc:title>«Школа юного пешехода»</dc:title>
</cp:coreProperties>
</file>